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8899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FDC1-96E4-46F9-8628-A4574E0B6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FA61-166C-4C69-9D26-34220569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2599-919A-4626-A23A-6C07D57EC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81AE-A01F-46C7-9874-9BB5496A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3970-F172-4876-A6EF-EE02DD97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3792-D2ED-4D55-8BE1-B4349B97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EE66-77EB-4A69-8728-DF74A0B5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BE96-A6E9-4787-A918-5EF64283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2846-E046-4E6A-9EA8-FE7B79D0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AEC9-1937-4C8D-9F09-64E43743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B9E2-BA72-4594-B860-3B06EA10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BFA0-1CB1-4B03-B144-164F07A5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0E9D-B10B-4570-84A1-8089DCD5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EB3B-54B3-49EC-BCD3-75BF0447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5FDC-7E5A-4C0F-A43A-28098639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6949-9246-4D07-AFCB-D4259851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78C8-BF84-47E3-895B-AA3E4771E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CA94-8DCA-4FAB-9EC6-62118E7E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1F8F-A1FF-4482-A5C9-1EC76F48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4B2F-6A9F-4B7C-B56C-7E49570F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9EEC-178C-4F7D-BC65-B7D91DB1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7ECD-20F0-433E-92E3-DDB685E1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FA44-EC0C-4129-A1C4-0F28E18F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77B7-8AA4-4C07-B69B-D197A8A7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8BE2-CBC5-4DD8-8E57-2076A3DD9A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7C02-5CFD-4EE9-B930-FA370E8FB5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SEJA O SEU PATRÃ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Quebre as regras, inove, corra riscos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Você pode, sim, ser um empreendedor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vista Você s.a jan/20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66680" y="4419720"/>
            <a:ext cx="26672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bcbcb"/>
                </a:solidFill>
                <a:latin typeface="Times New Roman"/>
              </a:rPr>
              <a:t>Mito 4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Empreendedores não tem chefes são completamente independe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Todo mundo é chefe do empreendedor: seus sócios, investidores, clientes, fornecedores, empregados, família, comunida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Mas os empreendedores pode escolher suas exigências que vão atender, e quan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2986200"/>
            <a:ext cx="1752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alid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010280" y="2700360"/>
            <a:ext cx="1737000" cy="1338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bcbcb"/>
                </a:solidFill>
                <a:latin typeface="Times New Roman"/>
              </a:rPr>
              <a:t>Mito 5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Empreendedores devem ser jovens e cheios de energ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Essa qualidade pode ajudar, mas a idade não é barreira. O que é crítico é possuir o conhecimento relevante, experiência e contatos que facilitam reconhecer e agarrar uma oportunida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3048120"/>
            <a:ext cx="1752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alid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856120" y="2209680"/>
            <a:ext cx="1154160" cy="1575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bcbcb"/>
                </a:solidFill>
                <a:latin typeface="Times New Roman"/>
              </a:rPr>
              <a:t>Mito 6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Empreendedores são jogad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Empreendedores bem-sucedidos calculam bem os risc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Eles tentam influenciar o jogo de probabilidades, freqüentemente atraindo outros para dividir os risco com e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2819520"/>
            <a:ext cx="1752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alid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638680" y="2448000"/>
            <a:ext cx="1924200" cy="1514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bcbcb"/>
                </a:solidFill>
                <a:latin typeface="Times New Roman"/>
              </a:rPr>
              <a:t>VOCÊ SE CONSIDERA  EMPREENDEDOR?</a:t>
            </a:r>
            <a:endParaRPr b="0" lang="en-US" sz="3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Você tem confiança na sua capacidad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stá realmente a fim de fazer sacrifício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abe lidar com imprevisto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Você toma decisões com facilidade e rapidez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abe farejar oportunidad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Você tem gá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stá disposto a liderar pelo exempl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934320" y="4038480"/>
            <a:ext cx="2209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228960" y="60912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bcbcb"/>
                </a:solidFill>
                <a:latin typeface="Times New Roman"/>
              </a:rPr>
              <a:t>AS DUAS FACES DO EMPREENDEDOR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25400" y="1928880"/>
          <a:ext cx="8409240" cy="51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400" y="1928880"/>
                    <a:ext cx="8409240" cy="51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bcbcb"/>
                </a:solidFill>
                <a:latin typeface="Times New Roman"/>
              </a:rPr>
              <a:t>    </a:t>
            </a:r>
            <a:r>
              <a:rPr b="1" lang="pt-BR" sz="3200" spc="-1" strike="noStrike">
                <a:solidFill>
                  <a:srgbClr val="cbcbcb"/>
                </a:solidFill>
                <a:latin typeface="Times New Roman"/>
              </a:rPr>
              <a:t>CARACTERISTICAS EMPREENDEDORA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uturista, visioná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ssume ris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nxerga oportun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ersuas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ersevera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strategi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timi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lexível e receptivo a novas idé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bcbcb"/>
                </a:solidFill>
                <a:latin typeface="Times New Roman"/>
              </a:rPr>
              <a:t>PRESENÇA DE ESPÍRITO</a:t>
            </a:r>
            <a:r>
              <a:rPr b="0" lang="pt-BR" sz="36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05280" y="1980720"/>
            <a:ext cx="9448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MPREENDEDORISMO: O BRASIL EM  PRIMEIRO?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 cada 8 brasileiros adultos 1 está envolvido na criação de um novo negóc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stados Unidos: 1 em  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glaterra         : 1 em   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Japão                : 1 em 100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onte: Consultoria Ernst Young - Exame: Fev/2001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bcbcb"/>
                </a:solidFill>
                <a:latin typeface="Times New Roman"/>
              </a:rPr>
              <a:t>Mitos sobre empreendedor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581280" y="3733920"/>
            <a:ext cx="2133720" cy="2438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bcbcb"/>
                </a:solidFill>
                <a:latin typeface="Times New Roman"/>
              </a:rPr>
              <a:t>Mito</a:t>
            </a: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lang="pt-BR" sz="4400" spc="-1" strike="noStrike">
                <a:solidFill>
                  <a:srgbClr val="cbcbcb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mpreendedores nascem feit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Embora empreendedores nasçam com uma certa inteligência, vontade de criar e energia, sua formação depende da acumulação de habilidades relevantes, experiência, contat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2819520"/>
            <a:ext cx="1752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alid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010280" y="2209680"/>
            <a:ext cx="1478160" cy="1333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bcbcb"/>
                </a:solidFill>
                <a:latin typeface="Times New Roman"/>
              </a:rPr>
              <a:t>Mito 2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Qualquer um pode começar um negóc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Pode. Sobreviver e florescer é que são ela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Empreendedores que entendem a diferença entre uma idéia e uma oportunidade e pensam grande têm mais chances de ser bem-sucedi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2757600"/>
            <a:ext cx="1752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alid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 flipH="1">
            <a:off x="6476760" y="2362320"/>
            <a:ext cx="685800" cy="13716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238880" y="2971800"/>
            <a:ext cx="304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3048120"/>
            <a:ext cx="304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7225200" y="2855160"/>
            <a:ext cx="256320" cy="385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467480" y="2209680"/>
            <a:ext cx="1143000" cy="1447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bcbcb"/>
                </a:solidFill>
                <a:latin typeface="Times New Roman"/>
              </a:rPr>
              <a:t>Mito 3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Dinheiro é o fator mais importante para montar uma empre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Se as outras peças estão no lugar, o dinheiro virá. Dinheiro é como um pincel e tinta para um pintor - materiais que, nas mãos certas, produzem maravilh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3138480"/>
            <a:ext cx="1752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alid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391520" y="2514600"/>
            <a:ext cx="1401480" cy="1263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248520" y="2514600"/>
            <a:ext cx="1346040" cy="1447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8T00:53:15Z</dcterms:created>
  <dc:creator>Paulo Salim</dc:creator>
  <dc:description/>
  <dc:language>en-US</dc:language>
  <cp:lastModifiedBy>Paulo Roberto Sallin</cp:lastModifiedBy>
  <cp:lastPrinted>2001-03-23T22:20:36Z</cp:lastPrinted>
  <dcterms:modified xsi:type="dcterms:W3CDTF">2001-03-23T22:23:54Z</dcterms:modified>
  <cp:revision>11</cp:revision>
  <dc:subject/>
  <dc:title>Mitos sobre empreendedores</dc:title>
</cp:coreProperties>
</file>